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EE9-9824-437A-AC51-92A146C1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E03-4BB6-4697-9A95-8A4F8B0C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AEE-9D6A-4A30-8888-B2D1617F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B68-C204-4519-91A4-24247F0B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2A36-2EB4-4535-9EA9-F38EA148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4CA6-ECCB-4A78-B536-4DFD1CDE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6B07-9823-41B9-BB44-98DCFFEB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1A2D-68BE-41E5-9D49-2C7F47C5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D1BA-49E3-4992-AEEB-4F2431EF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2BCE-FE78-44F2-BB68-0A0630AF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4315-B44C-4639-93E3-29DCB35A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FAF-459F-4FB4-B829-94333E67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C6FD-F66B-4193-8C77-8F706E2D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5103-21F7-4E09-8536-EF0F6735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B8AC-FBA2-4BB4-B1B1-1C586925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BDF8-0154-46D7-B0A7-0F36CE52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7F95-CE09-43D1-A4ED-9B923C14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3E2-4809-402C-9AF1-0B995D58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257-3908-4921-9185-16250B52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48D-3844-452E-8C2B-C8B99DFF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853-8751-4F39-90D6-85EB4A0C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936-17ED-401A-A794-DDFCAE7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2FE-D558-4E20-A075-8D46BA3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3A8-D19C-4AED-A5B9-158B4213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DEAB-A32A-4CE3-AC77-32BF13ACE4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35DD-F83B-43CD-9274-19DFD2253A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Me llamo __________ Clase 6NH (602)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La fecha es el 13 de diciembre del 201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Propósito # 23:</a:t>
            </a:r>
            <a:r>
              <a:rPr b="1" lang="es-ES_tradnl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Tienes mascot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O: 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jercicio 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R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P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Historieta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R2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P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ieta 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R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P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ieta 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R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jercic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area # 2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16:58Z</dcterms:created>
  <dc:creator>Helen Zumaeta</dc:creator>
  <dc:description/>
  <dc:language>en-US</dc:language>
  <cp:lastModifiedBy>Helen Zumaeta</cp:lastModifiedBy>
  <dcterms:modified xsi:type="dcterms:W3CDTF">2013-01-02T20:12:23Z</dcterms:modified>
  <cp:revision>16</cp:revision>
  <dc:subject/>
  <dc:title>Me llamo __________ Clase 6NH La fecha es el 4 de abril del 2014</dc:title>
</cp:coreProperties>
</file>